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2BE-E5B9-4561-B70E-798E8B26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FBE-2DEE-4460-86AD-41912A0F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1AD-5414-483D-BD30-B723884F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453-622B-46A7-9FDD-71748A0A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FDA-16CF-4DED-A5D0-569FFEBC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6CC-9E2F-40A1-A4B2-007601B5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24B8-32B5-4DB4-988E-9046526D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01D-560E-42EB-9203-6BFC7F43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09480" y="49500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6BA-A951-4621-804F-6796A573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903-1DFE-49C4-AC48-6546DB07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97D-B7B7-4702-BF20-E4AF1271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7FD-04C1-4A1F-AF39-152DACE1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C785-C4ED-4557-83BF-E3863B8E0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57200" y="357120"/>
            <a:ext cx="8231040" cy="1459080"/>
            <a:chOff x="457200" y="357120"/>
            <a:chExt cx="8231040" cy="1459080"/>
          </a:xfrm>
        </p:grpSpPr>
        <p:sp>
          <p:nvSpPr>
            <p:cNvPr id="4" name=""/>
            <p:cNvSpPr/>
            <p:nvPr/>
          </p:nvSpPr>
          <p:spPr>
            <a:xfrm>
              <a:off x="457200" y="366840"/>
              <a:ext cx="136440" cy="1449360"/>
            </a:xfrm>
            <a:custGeom>
              <a:avLst/>
              <a:gdLst/>
              <a:ahLst/>
              <a:rect l="l" t="t" r="r" b="b"/>
              <a:pathLst>
                <a:path w="86" h="913">
                  <a:moveTo>
                    <a:pt x="0" y="0"/>
                  </a:moveTo>
                  <a:lnTo>
                    <a:pt x="85" y="96"/>
                  </a:lnTo>
                  <a:lnTo>
                    <a:pt x="85" y="816"/>
                  </a:ln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550360" y="357120"/>
              <a:ext cx="137880" cy="1444680"/>
            </a:xfrm>
            <a:custGeom>
              <a:avLst/>
              <a:gdLst/>
              <a:ahLst/>
              <a:rect l="l" t="t" r="r" b="b"/>
              <a:pathLst>
                <a:path w="87" h="910">
                  <a:moveTo>
                    <a:pt x="86" y="0"/>
                  </a:moveTo>
                  <a:lnTo>
                    <a:pt x="0" y="93"/>
                  </a:lnTo>
                  <a:lnTo>
                    <a:pt x="0" y="813"/>
                  </a:lnTo>
                  <a:lnTo>
                    <a:pt x="86" y="909"/>
                  </a:lnTo>
                  <a:lnTo>
                    <a:pt x="86" y="0"/>
                  </a:lnTo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361800"/>
              <a:ext cx="8231040" cy="163800"/>
            </a:xfrm>
            <a:custGeom>
              <a:avLst/>
              <a:gdLst/>
              <a:ahLst/>
              <a:rect l="l" t="t" r="r" b="b"/>
              <a:pathLst>
                <a:path w="5185" h="103">
                  <a:moveTo>
                    <a:pt x="0" y="0"/>
                  </a:moveTo>
                  <a:lnTo>
                    <a:pt x="5184" y="3"/>
                  </a:lnTo>
                  <a:lnTo>
                    <a:pt x="5093" y="102"/>
                  </a:lnTo>
                  <a:lnTo>
                    <a:pt x="88" y="102"/>
                  </a:lnTo>
                  <a:lnTo>
                    <a:pt x="0" y="0"/>
                  </a:lnTo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457200" y="1343160"/>
            <a:ext cx="125280" cy="5197320"/>
          </a:xfrm>
          <a:custGeom>
            <a:avLst/>
            <a:gdLst/>
            <a:ahLst/>
            <a:rect l="l" t="t" r="r" b="b"/>
            <a:pathLst>
              <a:path w="79" h="3274">
                <a:moveTo>
                  <a:pt x="0" y="0"/>
                </a:moveTo>
                <a:lnTo>
                  <a:pt x="78" y="107"/>
                </a:lnTo>
                <a:lnTo>
                  <a:pt x="78" y="3166"/>
                </a:lnTo>
                <a:lnTo>
                  <a:pt x="0" y="3273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50360" y="1247760"/>
            <a:ext cx="133200" cy="5278320"/>
          </a:xfrm>
          <a:custGeom>
            <a:avLst/>
            <a:gdLst/>
            <a:ahLst/>
            <a:rect l="l" t="t" r="r" b="b"/>
            <a:pathLst>
              <a:path w="84" h="3325">
                <a:moveTo>
                  <a:pt x="83" y="0"/>
                </a:moveTo>
                <a:lnTo>
                  <a:pt x="3" y="109"/>
                </a:lnTo>
                <a:lnTo>
                  <a:pt x="0" y="3233"/>
                </a:lnTo>
                <a:lnTo>
                  <a:pt x="83" y="3324"/>
                </a:lnTo>
                <a:lnTo>
                  <a:pt x="83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6386400"/>
            <a:ext cx="8231040" cy="139680"/>
          </a:xfrm>
          <a:custGeom>
            <a:avLst/>
            <a:gdLst/>
            <a:ahLst/>
            <a:rect l="l" t="t" r="r" b="b"/>
            <a:pathLst>
              <a:path w="5185" h="88">
                <a:moveTo>
                  <a:pt x="0" y="87"/>
                </a:moveTo>
                <a:lnTo>
                  <a:pt x="5184" y="87"/>
                </a:lnTo>
                <a:lnTo>
                  <a:pt x="5095" y="0"/>
                </a:lnTo>
                <a:lnTo>
                  <a:pt x="89" y="0"/>
                </a:lnTo>
                <a:lnTo>
                  <a:pt x="0" y="87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92200" y="523800"/>
            <a:ext cx="7958160" cy="58579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"/>
          <p:cNvSpPr/>
          <p:nvPr/>
        </p:nvSpPr>
        <p:spPr>
          <a:xfrm>
            <a:off x="-681120" y="6232680"/>
            <a:ext cx="21830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4FBE-8CB2-4F7E-8497-669C2AA996CA}" type="slidenum">
              <a:rPr b="0" lang="en-US" sz="3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Thermochemistr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orimet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lar heat capacity = C/mo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 = specific heat x m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 = molar heat x moles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ke the units work and you’ve done the problem righ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coffee cup calorimeter measur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 insulated cup, full of water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specific heat of water is 1 cal/gº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 of reaction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 = s x mass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pecific heat of graphite is 0.71 J/gºC. Calculate the energy needed to raise the temperature of 75 kg of graphite from 294 K to 348 K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533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46.2 g sample of copper is heated to 95.4ºC and then placed in a calorimeter containing 75.0 g of water at 19.6ºC. The final temperature of both the water and the copper is 21.8ºC. What is the specific heat of copper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orimet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stant volume calorimeter is called a bomb calorime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terial is put in a container with pure oxygen. Wires are used to start the combustion. The container is put into a container of wa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heat capacity of the calorimeter is known and teste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omb Calorimet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048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4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rmomet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14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tirr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14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ull of wat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14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gnition wi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14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teel bomb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14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amp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619440" y="404640"/>
            <a:ext cx="4686480" cy="5994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362320" y="2514600"/>
            <a:ext cx="205740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581280" y="1599840"/>
            <a:ext cx="3429000" cy="152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29000" y="3352680"/>
            <a:ext cx="914400" cy="7632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514600" y="4876920"/>
            <a:ext cx="3124080" cy="9144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505320" y="3124080"/>
            <a:ext cx="205740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24080" y="4800240"/>
            <a:ext cx="1828800" cy="22860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perti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tensive properties not related to the amount of substanc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nsity, specific heat, temperat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tensive property - does depend on the amount of stuff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 capacity, mass, heat from a reac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ss’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nthalpy is a state func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t is independent of the path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e can add equations to to come up with the desired final product, and add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wo ru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the reaction is reversed the sign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 is chang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the reaction is multiplied, so i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4923000"/>
            <a:ext cx="662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52280" y="4923000"/>
            <a:ext cx="904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38280" y="1265400"/>
            <a:ext cx="671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1265400"/>
            <a:ext cx="98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35800" y="4465800"/>
            <a:ext cx="1085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68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5486400"/>
            <a:ext cx="6095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96252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6240" y="3246480"/>
            <a:ext cx="98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886200"/>
            <a:ext cx="1828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1828800"/>
            <a:ext cx="0" cy="365760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1828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3240" y="3170160"/>
            <a:ext cx="131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180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1905120"/>
            <a:ext cx="0" cy="198108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94040" y="2484360"/>
            <a:ext cx="1450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-112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533520"/>
            <a:ext cx="0" cy="586728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256680" y="3168360"/>
            <a:ext cx="1164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 (kJ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Enthalp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enthalpy change for a reaction at standard conditions (25ºC, 1 atm , 1 M solutions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ymbo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en using Hess’s Law, work by adding the equations up to make it look like the answer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other parts will cancel ou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784520" y="3765600"/>
                <a:ext cx="610848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876320" y="2954160"/>
                <a:ext cx="5545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684760" y="3398760"/>
            <a:ext cx="2490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= -394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1080" y="4541760"/>
            <a:ext cx="2490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= -286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46200" y="1650960"/>
                <a:ext cx="817236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2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Give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 for this reac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"/>
          <p:cNvSpPr/>
          <p:nvPr/>
        </p:nvSpPr>
        <p:spPr>
          <a:xfrm>
            <a:off x="5589360" y="2332080"/>
            <a:ext cx="2833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= -1300.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863720" y="5767560"/>
                <a:ext cx="57006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C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ergy is..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ability to do work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serve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de of heat and work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state func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dependent of the path, or how you get from point A to B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ork is a force acting over a distanc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 is energy transferred between objects because of temperature differenc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057320" y="1974960"/>
                <a:ext cx="5854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2OH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58960" y="2513160"/>
                <a:ext cx="32403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2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16200" y="3097080"/>
                <a:ext cx="35892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2H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076400" y="4300560"/>
                <a:ext cx="4727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H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OH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897840" y="1265400"/>
            <a:ext cx="1274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Giv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760" y="3627360"/>
            <a:ext cx="5880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 for this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92200" y="1874880"/>
            <a:ext cx="2597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= +77.9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18040" y="2408400"/>
            <a:ext cx="2593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= +495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0760" y="3017880"/>
            <a:ext cx="2830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= +435.9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Enthalpies of Form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ss’s Law is much more useful if you know lots of reaction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de a table of standard heats of formation. The amount of heat needed to for 1 mole of a compound from its elements in their standard stat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tandard states are 1 atm, 1M and 25º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 an element it is 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re is a table on p207 and p605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Enthalpies of Form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eed to be able to write the equation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is the equation for the formation of 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½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(g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ve to make 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one mole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o meet the defini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rite the equation for the formation of methanol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H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nce we can manipulate the equ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e can use heats of formation to figure out the heat of reac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ry this equa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H +3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2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3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ich uses this rul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38080" y="4876920"/>
                <a:ext cx="7880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å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DH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product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å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DH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reactant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t xml:space="preserve">DH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H +3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2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3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ame rules for heat and wor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 given off is negativ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 absorbed is positiv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ork done by system on surroundings is positiv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ork done on system by surroundings is negativ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rmodynamics- The study of energy and the changes it undergo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rst Law of Thermodynamic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energy of the universe is consta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aw of conservation of energy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q = he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 = work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 = q + w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ake the systems point of view to decide sign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univer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divided into two halv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system and the surrounding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system is the part we are concerned with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surroundings are the res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othermic reactions release energy to the surrounding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ndothermic reactions absorb energy from the surrounding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thalp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bbreviated H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 = E + PV (that’s the definition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t constant press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 + P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is work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ork is a force acting over a distanc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= F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 =  F/ are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 = V/are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= (P x area)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(V/area)= P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ork can be calculated by multiplying pressure by the change in volume at constant press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nits of liter - atm    L-at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ork needs a sig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the volume of a gas increases, the system has done work on the surrounding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ork is negativ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 = - P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panding work is negativ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tracting, surroundings do work on the system w is positiv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 L atm = 101.3 J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amount of work is done  when 15 L of gas is expanded to 25 L at 2.4 atm pressure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 2.36 J of heat are absorbed by the gas above. what is the change in energy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w much heat would it take to change the gas without changing the internal energy of the gas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773280" y="728640"/>
                <a:ext cx="74228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2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2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 + Hea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295280" y="297180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00120" y="2997360"/>
                <a:ext cx="74217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2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903920" y="5688000"/>
                <a:ext cx="31255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2 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990720" y="2057400"/>
            <a:ext cx="0" cy="4267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-881280" y="4541760"/>
            <a:ext cx="3333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tenti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55627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3080" y="2440080"/>
            <a:ext cx="761040" cy="106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37910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37910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9760" y="4343040"/>
            <a:ext cx="76140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2819520"/>
            <a:ext cx="30492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7080" y="3511440"/>
            <a:ext cx="2654280" cy="1130400"/>
          </a:xfrm>
          <a:prstGeom prst="rightArrow">
            <a:avLst>
              <a:gd name="adj1" fmla="val 50000"/>
              <a:gd name="adj2" fmla="val 117415"/>
            </a:avLst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7080" y="3780000"/>
            <a:ext cx="1091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Book Antiqua"/>
              </a:rPr>
              <a:t>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279440" y="5502240"/>
                <a:ext cx="2622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410080" y="281952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057400"/>
            <a:ext cx="0" cy="4267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881280" y="4541760"/>
            <a:ext cx="3333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tenti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54864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362320"/>
            <a:ext cx="761040" cy="106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37910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37910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85920" y="4648320"/>
            <a:ext cx="1447560" cy="8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95680" y="2819160"/>
            <a:ext cx="152640" cy="236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7080" y="3816360"/>
            <a:ext cx="2654280" cy="1130400"/>
          </a:xfrm>
          <a:prstGeom prst="leftArrow">
            <a:avLst>
              <a:gd name="adj1" fmla="val 50000"/>
              <a:gd name="adj2" fmla="val 117393"/>
            </a:avLst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76040" y="4084560"/>
            <a:ext cx="1158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Book Antiqua"/>
              </a:rPr>
              <a:t>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888160" y="2940120"/>
                <a:ext cx="16938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N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16040" y="665280"/>
                <a:ext cx="5135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heat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2NO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r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very energy measurement has three part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99"/>
              </a:spcBef>
              <a:buClr>
                <a:srgbClr val="fafd00"/>
              </a:buClr>
              <a:buSzPct val="10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unit ( Joules of calories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99"/>
              </a:spcBef>
              <a:buClr>
                <a:srgbClr val="fafd00"/>
              </a:buClr>
              <a:buSzPct val="10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number how many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99"/>
              </a:spcBef>
              <a:buClr>
                <a:srgbClr val="fafd00"/>
              </a:buClr>
              <a:buSzPct val="10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d a sign to tell direc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egative = exothermi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sitive = endothermi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58960" y="1758960"/>
            <a:ext cx="2806560" cy="394956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5640" y="1951200"/>
            <a:ext cx="1660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Book Antiqua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96440" y="808200"/>
            <a:ext cx="279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urrou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8640" y="3511440"/>
            <a:ext cx="2882880" cy="1282680"/>
          </a:xfrm>
          <a:prstGeom prst="rightArrow">
            <a:avLst>
              <a:gd name="adj1" fmla="val 50000"/>
              <a:gd name="adj2" fmla="val 112387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10160" y="3884760"/>
            <a:ext cx="168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Book Antiqua"/>
              </a:rPr>
              <a:t>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76560" y="5119560"/>
            <a:ext cx="1753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E &lt;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58960" y="1758960"/>
            <a:ext cx="2806560" cy="394956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5640" y="1951200"/>
            <a:ext cx="1660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Book Antiqua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6440" y="808200"/>
            <a:ext cx="279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urrou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8640" y="3511440"/>
            <a:ext cx="2882880" cy="1282680"/>
          </a:xfrm>
          <a:prstGeom prst="leftArrow">
            <a:avLst>
              <a:gd name="adj1" fmla="val 50000"/>
              <a:gd name="adj2" fmla="val 112367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10160" y="3884760"/>
            <a:ext cx="168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Book Antiqua"/>
              </a:rPr>
              <a:t>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76560" y="5119560"/>
            <a:ext cx="1753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E &gt;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orimet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easuring hea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se a calorime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wo kin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stant pressure calorimeter (called a coffee cup calorimeter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 capacity for a material, C is calculated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= heat absorbed/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/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pecific heat capacity = C/mas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1:49:40Z</dcterms:created>
  <dc:creator/>
  <dc:description/>
  <cp:keywords/>
  <dc:language>en-US</dc:language>
  <cp:lastModifiedBy>FPS</cp:lastModifiedBy>
  <dcterms:modified xsi:type="dcterms:W3CDTF">2008-10-20T15:56:12Z</dcterms:modified>
  <cp:revision>24</cp:revision>
  <dc:subject/>
  <dc:title>Chapter 6</dc:title>
</cp:coreProperties>
</file>